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6.jpeg" ContentType="image/jpeg"/>
  <Override PartName="/ppt/media/image8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150-B7A0-4914-A500-A3B51B09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B13-E8D8-412F-8FC8-672E7740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C050F-83DD-4B22-8D7D-CA356FC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F7CB4-6D76-4B7A-86E7-C30C10E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1FDF3-2F51-4D37-9B12-93D9883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273D-C528-45C0-9154-F6EB710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F02AF-F5AC-4121-A905-827C081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7D938-701B-40EA-A04B-9816601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E7CEE-0212-4B95-9A39-41D3EBFA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F5DB4-4B95-42F3-8C30-9679B0EE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D1060-B05F-4BB7-ADF6-0479111D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E91FD-7803-44EE-8EA8-D830DC18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1C3-E039-4D6D-83B4-A92DA7FC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1D244-0FC4-423A-BC09-F75C072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0429D-1E61-4F2D-8F6C-B6035D1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6DE87-E13E-4A6A-9C6E-440AF19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60D73-C327-48A3-A31E-EE87E96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13E99-6BF9-4CCF-BD6E-189B00E3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4219B-4653-4F33-BE16-154B8B1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10AD2-0B83-4CEB-8D7A-E098ED6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9DD93-AA28-4E0F-BD21-3C19D47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5744A-108B-4E85-903F-40C3C627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9B852-2AA7-4082-A68D-28BF2FE7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63E-1C26-41BA-BB68-4A9C79A8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F28FA-609A-445C-AF4C-F168F03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0D5D1-71BB-4CF0-BDBE-4CE1C3C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B3B8-923C-486A-A952-B873C9C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2623A-0598-468D-B4E7-68667C2C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DD246-DF47-459E-A429-E1DBCF5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00DB5-2D86-42ED-B08F-47422342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6F110-44AE-4514-A7C4-3B5188D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2B911-014A-4F4E-B0C3-011B127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FFD2-0E6F-4DAD-B14C-0077A32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3C625-925E-4D77-BB19-EBF7BB2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AE0-0796-4F1A-A05C-482EDB7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D1D9-812E-4CB4-BF70-035940C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0CF2-DEDF-4CEA-9141-8492E2D6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BBD26-540A-448B-97C0-349AA3AE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97289-2624-4787-ACE7-9C7C3584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979CC-AFF1-40C1-B35B-10B0523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E314D-FB79-4137-9CD7-B72684C9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BE6DB-CCF8-45ED-AF6C-E27CD59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31199-AE4A-4D94-8F9E-FBDB98A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21778-8100-4A37-88D8-D1E732E6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81F34-5BDB-43B1-BC55-C1A377A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A84E-9C30-4B85-AAE1-0837C4C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9B0BA-F24F-492B-8645-647F4DC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8FF34-0DA0-433A-B76E-FA52286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0C71B-44DE-4F01-8261-1E6BA819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B101C-94A5-4AE8-AEA9-7D9826C3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37F3A-DB00-4298-9FB5-7D78ADFD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F0E-6184-4086-9C27-32AD593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0A82-1800-418B-8162-822ADCF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C9C-7A4D-4A39-96DC-9B03E551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A872-4217-436B-A5A6-F83D347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0EB6-7786-4B5F-AE75-136DA27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F02-496B-4431-8EA1-EB24BA4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090-DD73-4284-B010-3097C949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EF5E-0CED-40DD-8C2B-0FD4896D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F7E-27DC-4DE7-A656-4F2A1349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65C0-A185-43C0-9E57-18AA78B1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682-E975-40F1-8469-9D317C8A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41D8-2973-432D-A9D9-4BA3C79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E213-511E-4EEC-90B6-025CE968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9F56-D1AD-4811-AC45-521F451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B59E-C002-4C20-A5C3-1265DBB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33BE-CF19-4D93-B579-4C4258C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41C-7809-44DC-A8CF-4CA41331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E92D-159C-4075-A185-7A617AC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1FDC-F74C-485E-B138-EE74C67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09B4-F3F6-430B-B540-6C78AB5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D6A6-5031-4545-90BF-B520D80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E197-278C-405E-971B-B8C6502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7A58-3D1F-4594-88CB-2B8D71B8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4E97-30AE-4D72-A9BF-2AEF37A9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CF8A-C029-4300-AF09-6B6C7532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F017-4694-4C41-A7B2-77B9B1B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AFA2-62C0-4193-8667-189FE89F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8EA-3E6B-40A9-92F5-980985B0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591D-79EE-4B31-A58A-12CF5A1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6A39-E00A-4536-8E68-CDECF48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B094-BE0D-401A-B2F8-425EA99F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B91C-2607-429C-899F-D7D1164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84DB-4B03-44C6-8516-DD2A429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23D17-404D-45B4-BC6B-CBC7FCC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4472-09A1-4AA6-A2B7-F856651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0495-F622-455B-A32E-3294CA4E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5941-C1A8-4282-95C5-038DBD8E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78F1-418B-44E0-9DBE-B62F6DC1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BD3-68A7-4245-B96F-EF387F9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751C-C408-4CFB-B35A-4AB29B4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E44B6-792D-4268-B6C2-CB342B47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E5A5-B5A0-4ABC-838B-7031D67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4322-C669-4847-B55D-8364CCF3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17B8-3C5D-4059-9D88-1049E60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63D7-AA48-45D5-9C42-7D67ECF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31C6-080C-4132-84B9-68CA8EC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1655-0848-4B88-B40B-7F8F0B0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C1C80-9C04-42CF-B811-4BACB39C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D1DE-ABF1-4759-92B1-F0E713FF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49F-3560-4BF5-BA4E-F16B1C1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A37F-A0F5-4D0B-A632-53224347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F1E1-51BE-4B84-AF00-A0A84181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1F21D-62F4-4D5F-A6F0-636387A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B5C5-9514-4864-B7CB-A9F7654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D8BD-8193-4ADD-B010-2B70E5DC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326F-1E2F-45D9-857D-7415C0F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D627-F35A-408F-9459-DFB8B3A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0C0EE-9ABC-4074-BF9B-720521F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21A2C-11C3-4CC4-866D-E8EA669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CEACB-F3E0-4D88-8FA5-6C0E6F8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DC1-B490-4E63-AEDF-730238C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BEDB7-90FE-414C-8BD6-2F6D93AB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1F84-1988-4114-A296-3F465D8C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8E4E-56F1-4787-84B5-48563A26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4E26-10DC-49CA-BF63-7427E4A0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4674A-E66C-4061-9755-9258738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CCCBC-973E-46D1-9188-BC31364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7EA4-CF89-46E4-B5E3-6406265B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AA76-BF0C-4600-BD21-94565A77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274FD-56B1-4E08-AEF3-C3B04E6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DC0BA-1A83-449E-9AC1-48BFF3B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6AC-193D-484C-B041-37D12789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E85E-0774-4D65-9214-B02DC250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6077-AD24-4357-8060-69959F6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DF9B-534D-4F6B-BE87-A1DAFF7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9610-9D77-4450-B415-F409F8D6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1DAF-D86C-414E-AA7A-B1D6883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E871-DCDD-46AE-A64B-B0CE1B94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29C1-5FEF-46B4-9E8D-084DDCE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E965B-923D-4B9A-88E5-00979075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24546-5FDA-4A7A-894E-126F63F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E3EB-CE31-487B-8931-CD7E2BA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51F-8E63-4E0E-BDD0-B51C1AE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E8E6-3E9C-4304-93E8-C8FE5881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5C625-A28D-48AF-BA88-E45BF71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0D67-6FAC-49D5-99BF-5576908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A221-F4A6-4CC9-B1F7-1449313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BAEF-ED7B-4533-B0BD-16EED709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FBA63-7643-404E-826E-21801175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50EA2-0751-4053-92BA-2F098D95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07CED-1A54-4B76-9FA8-884C8485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9A5F7-3F2F-4710-AFCF-A18F1F30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F4BFA-6B71-458B-8746-96C186C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1FEC-259F-4E4C-ADB5-B049641AEC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1BD-C204-4836-8FA0-1FFF8A033C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D1B5-9614-402D-9735-B34F9D38CA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695-5E33-4269-AFE7-5A4FEF05F96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283-774A-4B15-AA81-3883E9F89D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BFE-8F20-48C0-BEB2-3DF37BB6437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95A-0A38-4D94-9984-F5F2C7524E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D08-88CD-4AB1-9523-1F827B1297A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9AD-9234-479F-9A2E-4CB96B368F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734-4DCD-4E62-A44B-4FA02D6E459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8B29-573D-4E94-A114-B154609D22B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EB4-29FE-4C02-B8AE-1210D65A0E5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6" descr="C:\Users\Godissluv\AppData\Local\Microsoft\Windows\Temporary Internet Files\Content.IE5\LSPHXEYT\MC900056792[1].wmf"/>
          <p:cNvPicPr/>
          <p:nvPr/>
        </p:nvPicPr>
        <p:blipFill>
          <a:blip r:embed="rId1"/>
          <a:stretch/>
        </p:blipFill>
        <p:spPr>
          <a:xfrm>
            <a:off x="609480" y="2438280"/>
            <a:ext cx="7786800" cy="33670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371240" y="31237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NERLYNE ST. PIER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WILBERTA WILLI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DUCATION 702.22 – FALL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Georgia"/>
              </a:rPr>
              <a:t>Student-Centered vs. Teacher Centered Instruction: Are our instructional approach failing our students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Table of Conten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view of Related Literatu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tement of Hypothesi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C:\Users\Godissluv\AppData\Local\Microsoft\Windows\Temporary Internet Files\Content.IE5\3DYN1UD3\MC900056680[1].wmf"/>
          <p:cNvPicPr/>
          <p:nvPr/>
        </p:nvPicPr>
        <p:blipFill>
          <a:blip r:embed="rId1"/>
          <a:stretch/>
        </p:blipFill>
        <p:spPr>
          <a:xfrm>
            <a:off x="6611760" y="5562720"/>
            <a:ext cx="2262240" cy="129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Godissluv\AppData\Local\Microsoft\Windows\Temporary Internet Files\Content.IE5\LSPHXEYT\MC900060317[1].wmf"/>
          <p:cNvPicPr/>
          <p:nvPr/>
        </p:nvPicPr>
        <p:blipFill>
          <a:blip r:embed="rId2"/>
          <a:stretch/>
        </p:blipFill>
        <p:spPr>
          <a:xfrm>
            <a:off x="152280" y="152280"/>
            <a:ext cx="2062440" cy="106704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Georgia"/>
              </a:rPr>
              <a:t>Statement of the Problem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560" y="1371240"/>
            <a:ext cx="850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Inner-City Public schools are failing our students, particularly minority students from low-income background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Educational inequality our students are facing in our urban public schools is our greatest challenge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We must work towards closing the achievement gap between low-income students and high-income students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Are our teaching styles failing to meet the needs of our students?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Georgia"/>
              </a:rPr>
              <a:t>Do students perform better in a teacher-centered instructional environment or student-centered instructional environment?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Review of Related Lit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own, K.L. (2003).  From teacher-centered to learner-centered curriculum: improving learning in diverse classrooms.  Education (Chula Vista, Calif.).  Volume 124 (1), 49-54.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rush, T., &amp; Saye, J. (2000). Implementation and Evaluation of Student-Centered Learn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nit: A Case Study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ducational Technology Research and Development, Volume 48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(3), 79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uban, L.  (2007).  Hugging the middle: teaching in an era of testing and accountability, 1980 2005.  Education Policy Analysis Archives, Volume 15 (1), 1-27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arrett, T. (2008). Student-centered and teacher-centered classroom management: A case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udy of three elementary teacher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Journal of Classroom Interaction, volume 43(1)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34-47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ertzog, N. B. (2007). Transporting pedagogy: Implementing the project approach in two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-grade classroom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Journal of Advanced Academics.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Volume 18(4), 530-564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http://www.cooperativeindividualism.org/dewey-john-2.gif"/>
          <p:cNvPicPr/>
          <p:nvPr/>
        </p:nvPicPr>
        <p:blipFill>
          <a:blip r:embed="rId1"/>
          <a:stretch/>
        </p:blipFill>
        <p:spPr>
          <a:xfrm>
            <a:off x="304920" y="152280"/>
            <a:ext cx="742680" cy="9907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4"/>
          <p:cNvSpPr/>
          <p:nvPr/>
        </p:nvSpPr>
        <p:spPr>
          <a:xfrm>
            <a:off x="152280" y="1066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w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9" descr="http://upload.wikimedia.org/wikipedia/en/3/37/Ed_hirsch_jr.png"/>
          <p:cNvPicPr/>
          <p:nvPr/>
        </p:nvPicPr>
        <p:blipFill>
          <a:blip r:embed="rId2"/>
          <a:stretch/>
        </p:blipFill>
        <p:spPr>
          <a:xfrm>
            <a:off x="8001000" y="152280"/>
            <a:ext cx="660240" cy="9907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8"/>
          <p:cNvSpPr/>
          <p:nvPr/>
        </p:nvSpPr>
        <p:spPr>
          <a:xfrm>
            <a:off x="7924680" y="1066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D. Hirsc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Review of Related Lit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Johnson, A., Kimball, R., Melendez, B., Myers, L., Rhea, K., &amp; Travis, B. (2009). Break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th tradition: preparing faculty to teach in a student-centered or problem-solving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nvironment. 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PRIMUS, Volume 19(2), 146-16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ichael, R., &amp; And, O. (1994). Promoting achievement in child centered education: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valuation of a non-Graded, multi-age, continuous progress primary school (K-3).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Ocak, G. (2010). The Effect of Learning Stations on the Level of Academic Success and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tention of Elementary School Students.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New Educational Review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(3), 146-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56. Retrieved from Education Research Complete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assman, R. (2000). Pressure cooker: experiences with student-centered teaching and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 in high-stakes assessment environments. 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assman, R., &amp; Duran-Klenclo, P. (2002). Teachers talking about change: reflection as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essional development. Retrieved from ERIC databas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7" descr="http://4.bp.blogspot.com/_fPoWZ33QqG4/Seff_OByLiI/AAAAAAAAEFE/SHMeU_CWlmY/s400/Maria_Montessori.jpg"/>
          <p:cNvPicPr/>
          <p:nvPr/>
        </p:nvPicPr>
        <p:blipFill>
          <a:blip r:embed="rId1"/>
          <a:stretch/>
        </p:blipFill>
        <p:spPr>
          <a:xfrm>
            <a:off x="228600" y="152280"/>
            <a:ext cx="768240" cy="9907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http://www.iasd.cc/piper/PiperJill_ITspec_cert/IT%20Portfolio/Portfolio_Pages/HistAndPhilFall06website/Ch8/8-DarraghCurtin/Diane%20Ravitch.jpg"/>
          <p:cNvPicPr/>
          <p:nvPr/>
        </p:nvPicPr>
        <p:blipFill>
          <a:blip r:embed="rId2"/>
          <a:stretch/>
        </p:blipFill>
        <p:spPr>
          <a:xfrm>
            <a:off x="7924680" y="152280"/>
            <a:ext cx="803520" cy="9748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5"/>
          <p:cNvSpPr/>
          <p:nvPr/>
        </p:nvSpPr>
        <p:spPr>
          <a:xfrm>
            <a:off x="152280" y="10666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 Montess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7848720" y="1066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ne Rav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04040"/>
                </a:solidFill>
                <a:latin typeface="Georgia"/>
              </a:rPr>
              <a:t>Statement of the Hypothes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R 1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ver a period of 10 weeks will plan and deliver a series of social studies lessons to a first grade class in two different settings (charter school and public school)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alf of the lessons will be teacher-centered instruction and the other half of the lessons will be student-centered instruction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ssessments: Test to ascertain which instructional method yield the best academic performances.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omparative study to determine if their findings were similar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End!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4" descr="http://tagadavao.files.wordpress.com/2008/07/applause.gif"/>
          <p:cNvPicPr/>
          <p:nvPr/>
        </p:nvPicPr>
        <p:blipFill>
          <a:blip r:embed="rId1"/>
          <a:stretch/>
        </p:blipFill>
        <p:spPr>
          <a:xfrm>
            <a:off x="2514600" y="1523880"/>
            <a:ext cx="408636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1:09:33Z</dcterms:created>
  <dc:creator>Windows User</dc:creator>
  <dc:description/>
  <dc:language>en-US</dc:language>
  <cp:lastModifiedBy>HP Authorized Customer</cp:lastModifiedBy>
  <dcterms:modified xsi:type="dcterms:W3CDTF">2010-10-19T21:55:01Z</dcterms:modified>
  <cp:revision>56</cp:revision>
  <dc:subject/>
  <dc:title>Slide 1</dc:title>
</cp:coreProperties>
</file>